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DCE-B378-49E8-9C7D-ED9BD002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3A7-871C-4E00-843A-CA8CFA5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AF6-E198-4637-8FB7-0EDE33F9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4E8-11CB-4054-890C-9B97C0B0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AD8A-409B-4E47-AB19-165B1AD1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2E75-5323-4FF5-9257-A7541762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D24F-1192-44C9-823E-2B6C9D56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F137-5DCF-470D-8ADF-57E48C5E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1195-99D9-4EF0-8E67-FD35C47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970A-9ECD-4E2C-A160-C6D9C5F2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C0E0-0E53-40D6-B202-5697E1C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F3A-79C5-4021-AC23-7D1794E7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9F77-F611-4F3D-B035-C60B3BF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21B1-451D-497E-871D-14C35AF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6E05-C0E5-4A7F-874F-8C54D5C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8E73-4DD7-4082-AD47-AE444C03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4CCD-6042-40E3-B048-648A990A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1AE-C19D-4AF0-B7BA-F2F26AD3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88B-644C-4E23-BBA8-2B340831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B42-1982-4DD0-AD7D-A618FF9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A01-8DCC-4FFF-8640-0B127166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EE7-013A-4162-8138-13FB133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B4A-0349-4A07-B2B1-A6DA292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5A4-27FB-4B33-9984-40B5EA5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5997-8B5F-4C5D-8690-E5DA2EB5BB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D872-6962-44B1-912A-A361FA3C13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age.com.au/ffximage/2006/07/19/svABORIGINES_wideweb__470x338,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lanethoustonamx.com/amxtrash/junky_amx.jpg&amp;imgrefurl=http://www.planethoustonamx.com/amxtrash/uglycars2.htm&amp;usg=__wsGxLEy6axaVkw14Sh3ZjQjpva8=&amp;h=296&amp;w=400&amp;sz=29&amp;hl=en&amp;start=2&amp;tbnid=GcmzMP58oYb0AM:&amp;tbnh=92&amp;tbnw=124&amp;prev=/images%3Fq%3Dpictures%2Bof%2Bjunky%2Bcars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graphics8.nytimes.com/images/2008/12/15/us/15blago-480.jpg&amp;imgrefurl=http://thecaucus.blogs.nytimes.com/2008/12/19/blagojevich-to-make-statement/&amp;usg=__mAXb3rrwJ6qmFiIbOiu7Y8cIngg=&amp;h=274&amp;w=480&amp;sz=25&amp;hl=en&amp;start=4&amp;tbnid=2RTacCoxjummrM:&amp;tbnh=74&amp;tbnw=129&amp;prev=/images%3Fq%3Dpictures%2Bof%2Bblagojevich%26hl%3Den%26sa%3DX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igcornisland.com/images/beach.jpg&amp;imgrefurl=http://www.bigcornisland.com/&amp;usg=__hSdzRG6GUvE7Z3IabrB6N3GvpGg=&amp;h=480&amp;w=640&amp;sz=73&amp;hl=en&amp;start=4&amp;tbnid=DN07dXrcfgcycM:&amp;tbnh=103&amp;tbnw=137&amp;prev=/images%3Fq%3Dpictures%2Bof%2Bislands%26hl%3De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law.justanswer.com/uploads/MrLawyer/2008-6-10_181024_515px-Scales_Of_Justice_svg.png&amp;imgrefurl=https://law.justanswer.com/child/197j6-hello-question-live-girlfriend-13&amp;usg=__r5IlE5ENtyGTxtyXkpY75Lj1_l8=&amp;h=600&amp;w=515&amp;sz=21&amp;hl=en&amp;start=3&amp;tbnid=0PanBFagWd95jM:&amp;tbnh=135&amp;tbnw=116&amp;prev=/images%3Fq%3Dpictures%2Bof%2Bthe%2Bscales%2Bof%2Bjustice%26hl%3De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cel.org/pix/books.jpeg&amp;imgrefurl=http://www.ccel.org/shortlist.html&amp;usg=__MxvuSnLQHVqbJc1fEPeiiaCtsuA=&amp;h=343&amp;w=535&amp;sz=47&amp;hl=en&amp;start=1&amp;tbnid=acP36Sp256ZS-M:&amp;tbnh=85&amp;tbnw=132&amp;prev=/images%3Fq%3Dpictures%2Bof%2Bbooks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delivery.superstock.com/WI/223/1487/PreviewComp/SuperStock_1487R-61254.jpg&amp;imgrefurl=http://www.superstock.com/stock-photos-images/1487R-61254&amp;h=350&amp;w=232&amp;sz=45&amp;tbnid=8T0E2krcgh08JM::&amp;tbnh=120&amp;tbnw=80&amp;prev=/images%3Fq%3Dpictures%2Bof%2Bmothers%2Bgiving%2Bbabies%2Btheir%2Bbottle&amp;hl=en&amp;usg=__oT-q5n6BD0HWerEJuIxJ-vHVlKA=&amp;sa=X&amp;oi=image_result&amp;resnum=2&amp;ct=image&amp;cd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-love-dogs.com/software/Cute-Dog-Screensaver.jpg&amp;imgrefurl=http://www.i-love-dogs.com/software/Cute-Dog-Screensaver.html&amp;h=353&amp;w=300&amp;sz=5&amp;tbnid=Fb1ju91uX0_1JM::&amp;tbnh=121&amp;tbnw=103&amp;prev=/images%3Fq%3Dpictures%2Bof%2Bcute%2Bdogs&amp;hl=en&amp;usg=__J-3XrkQjiH2ExGk-29g3Dx-wd7w=&amp;sa=X&amp;oi=image_result&amp;resnum=1&amp;ct=image&amp;cd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104.photobucket.com/albums/m167/jesszwo/Grandpas-6.jpg&amp;imgrefurl=http://studio3z.blogspot.com/2008/03/grandpa-george-turns-90-part-2.html&amp;h=497&amp;w=495&amp;sz=176&amp;tbnid=mzMq1kj1B9n_yM::&amp;tbnh=130&amp;tbnw=129&amp;prev=/images%3Fq%3Dpictures%2Bof%2Bgrandpas&amp;hl=en&amp;usg=__TCohgTluliwV0r3FxYVkCrXTFR4=&amp;sa=X&amp;oi=image_result&amp;resnum=4&amp;ct=image&amp;cd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rldofstock.com/slides/PRO109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earbliss.hu/pics/cover/phantoms1.jpg&amp;imgrefurl=http://www.searbliss.hu/hub/phantoms.html&amp;h=702&amp;w=702&amp;sz=117&amp;tbnid=N_eQPi5fTabFMM::&amp;tbnh=140&amp;tbnw=140&amp;prev=/images%3Fq%3Dpictures%2Bof%2Bphantoms&amp;hl=en&amp;usg=__VwdMB1XBF3OfKLpbrfn-sRGHezw=&amp;sa=X&amp;oi=image_result&amp;resnum=2&amp;ct=image&amp;cd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izmodo.com.au/2007/05/07/pma-kodak-bag2.jpg&amp;imgrefurl=http://www.gizmodo.com.au/2007/05/07/&amp;h=290&amp;w=520&amp;sz=34&amp;tbnid=B1q2aP2YWmYXzM::&amp;tbnh=73&amp;tbnw=131&amp;prev=/images%3Fq%3Dpictures%2Bof%2Bold%2Bladies%2Bhitting%2Bwith%2Btheir%2Bpurses&amp;hl=en&amp;usg=__m7bbhVrF7bh8T5eBSpk_XEyvPYs=&amp;sa=X&amp;oi=image_result&amp;resnum=4&amp;ct=image&amp;cd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iwd.uscourts.gov/COURTROOM%2520TECH/Bell/Courtroom.jpg&amp;imgrefurl=http://countenance.wordpress.com/2006/12/08/&amp;h=300&amp;w=400&amp;sz=31&amp;tbnid=j6RZRyx0cHiL7M::&amp;tbnh=93&amp;tbnw=124&amp;prev=/images%3Fq%3Dpictures%2Bof%2Bcourtrooms&amp;hl=en&amp;usg=__EOXneW-iX-ADOVkaZcadH1iGrVY=&amp;sa=X&amp;oi=image_result&amp;resnum=3&amp;ct=image&amp;cd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rvforsaleguide.com/trip/kids/mean-face-ben-picture.jpg&amp;imgrefurl=http://rvforsaleguide.com/benjamin-family-vacation-pictures.htm&amp;h=494&amp;w=479&amp;sz=120&amp;tbnid=mPI7uZaMuguOzM::&amp;tbnh=130&amp;tbnw=126&amp;prev=/images%3Fq%3Dpictures%2Bof%2Bmean%2Bfaces&amp;hl=en&amp;usg=__KxfjgklqmwfNdNkIh5HsrTd75zM=&amp;sa=X&amp;oi=image_result&amp;resnum=3&amp;ct=image&amp;cd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ek 2 Vocabul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come from the first four chapters of 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igen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ng in and characteristic of a particular region or country; native (often fol.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aborigines are indigenous to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1972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livv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514600"/>
            <a:ext cx="6248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of unsatisfactory quality or inferior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flivver was stranded on the side of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04920"/>
            <a:ext cx="3048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llicitl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er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Governor has been accused of illicit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86200"/>
            <a:ext cx="4419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anqui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from commotion or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 was a tranquil o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685800"/>
            <a:ext cx="32004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equ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equity; unfairness; favoritism or b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trial was filled with inequ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419720"/>
            <a:ext cx="2590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acti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ly angered or unr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student was kicked out of the game for fractiou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approb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ncipal showed disapprobation for the student’s skimpy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ortific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liation or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 experienced mortification when her friends played a mean prank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ex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annoying or irrit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behavior vexed his girl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ite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90560" y="137160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read and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of English class is to become literate members of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809880"/>
            <a:ext cx="5715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uaged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acify or soo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mother assuaged the baby with a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http://www.superstock.com/stock-photos-images/1487R-612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3809880"/>
            <a:ext cx="167652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pici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ing success, fortu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ay that Obama has an auspicious future ahead of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Unanim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te to impeach the president was unani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tu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ed or established rite, ceremony, proceeding, or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xiety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ess or uneasiness of mind caused by fear of danger or misfor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man shows anxiety of losing his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stilen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ually fatal epidemic disease,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pestilence caused many deaths and even more ill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quisitiv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o inquiry, research, or asking questions; eager for knowledge; intellectually cu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is inquisitive and always ask a million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dific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improvement or gui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priest offered the man edification for his bad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ar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up with at least one sentence using 5 of the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edile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ndency to think favorably of something in partic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miley has a predilection for raw hide b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http://www.i-love-dogs.com/software/Cute-Dog-Screensaver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114800"/>
            <a:ext cx="22100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acitur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 or si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y grandfather can sometimes seem taciturn, but in reality he is a great g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http://studio3z.blogspot.com/2008/03/grandpa-george-turns-90-part-2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572000"/>
            <a:ext cx="23623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mble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o at a slow, easy 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couple ambled along talking and holding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886200"/>
            <a:ext cx="215244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hanto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earance or illusion without material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woman thought she saw her dead dog running, but it was only a phan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http://www.searbliss.hu/hub/phantom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3526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imid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orce someone to do something through use of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criminal tried to intimidate the elderly lady, but she hit him with her p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http://www.gizmodo.com.au/2007/05/07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4800600"/>
            <a:ext cx="18288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ansa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990720"/>
            <a:ext cx="62485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blished records of the proceedings, as papers read, addresses delivered, such as in a courtroo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transaction showed that the man had lied in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http://countenance.wordpress.com/2006/12/08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962520"/>
            <a:ext cx="266688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levol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hing evil or h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 student was malevolent to her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http://rvforsaleguide.com/benjamin-family-vacation-pictures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191120"/>
            <a:ext cx="28958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9:06:05Z</dcterms:created>
  <dc:creator>rebecca</dc:creator>
  <dc:description/>
  <dc:language>en-US</dc:language>
  <cp:lastModifiedBy>rebecca</cp:lastModifiedBy>
  <dcterms:modified xsi:type="dcterms:W3CDTF">2009-01-06T21:49:50Z</dcterms:modified>
  <cp:revision>2</cp:revision>
  <dc:subject/>
  <dc:title>Week 2 Vocabulary</dc:title>
</cp:coreProperties>
</file>